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5.gif" ContentType="image/gif"/>
  <Override PartName="/ppt/media/image2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4.gif" ContentType="image/gif"/>
  <Override PartName="/ppt/media/image13.gif" ContentType="image/gif"/>
  <Override PartName="/ppt/media/image46.wmf" ContentType="image/x-wmf"/>
  <Override PartName="/ppt/media/image21.gif" ContentType="image/gif"/>
  <Override PartName="/ppt/media/image19.gif" ContentType="image/gif"/>
  <Override PartName="/ppt/media/image15.wmf" ContentType="image/x-wmf"/>
  <Override PartName="/ppt/media/image41.jpeg" ContentType="image/jpeg"/>
  <Override PartName="/ppt/media/image1.png" ContentType="image/png"/>
  <Override PartName="/ppt/media/image2.jpeg" ContentType="image/jpeg"/>
  <Override PartName="/ppt/media/image26.gif" ContentType="image/gif"/>
  <Override PartName="/ppt/media/image3.gif" ContentType="image/gif"/>
  <Override PartName="/ppt/media/image27.gif" ContentType="image/gif"/>
  <Override PartName="/ppt/media/image17.gif" ContentType="image/gif"/>
  <Override PartName="/ppt/media/camera.wav" ContentType="audio/x-wav"/>
  <Override PartName="/ppt/media/image42.wmf" ContentType="image/x-wmf"/>
  <Override PartName="/ppt/media/image29.gif" ContentType="image/gif"/>
  <Override PartName="/ppt/media/image31.gif" ContentType="image/gif"/>
  <Override PartName="/ppt/media/image32.gif" ContentType="image/gif"/>
  <Override PartName="/ppt/media/image7.gif" ContentType="image/gif"/>
  <Override PartName="/ppt/media/image37.wmf" ContentType="image/x-wmf"/>
  <Override PartName="/ppt/media/image38.wmf" ContentType="image/x-wmf"/>
  <Override PartName="/ppt/media/image40.wmf" ContentType="image/x-wmf"/>
  <Override PartName="/ppt/media/image30.gif" ContentType="image/gif"/>
  <Override PartName="/ppt/media/image5.gif" ContentType="image/gif"/>
  <Override PartName="/ppt/media/image16.wmf" ContentType="image/x-wmf"/>
  <Override PartName="/ppt/media/image45.wmf" ContentType="image/x-wmf"/>
  <Override PartName="/ppt/media/image39.gif" ContentType="image/gif"/>
  <Override PartName="/ppt/media/image35.wmf" ContentType="image/x-wmf"/>
  <Override PartName="/ppt/media/image9.gif" ContentType="image/gif"/>
  <Override PartName="/ppt/media/image8.gif" ContentType="image/gif"/>
  <Override PartName="/ppt/media/image44.wmf" ContentType="image/x-wmf"/>
  <Override PartName="/ppt/media/image11.gif" ContentType="image/gif"/>
  <Override PartName="/ppt/media/image6.gif" ContentType="image/gif"/>
  <Override PartName="/ppt/media/image36.gif" ContentType="image/gif"/>
  <Override PartName="/ppt/media/image47.gif" ContentType="image/gif"/>
  <Override PartName="/ppt/media/image43.wmf" ContentType="image/x-wmf"/>
  <Override PartName="/ppt/media/image10.gif" ContentType="image/gif"/>
  <Override PartName="/ppt/media/image12.wmf" ContentType="image/x-wmf"/>
  <Override PartName="/ppt/media/image24.gif" ContentType="image/gif"/>
  <Override PartName="/ppt/media/image4.gif" ContentType="image/gif"/>
  <Override PartName="/ppt/media/image34.gif" ContentType="image/gif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98A-132B-4250-978F-C6266C7A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6E5-80A2-437A-8D3B-1B4AF4B8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2DB-FDD5-489C-B51F-4A4DD4F5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6D9-A8AC-4F66-BFC0-F3C79CB9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985B-0E7C-4F6C-8C80-7FB2FB34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D4AA-06CD-4AF8-A172-15EFB24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C9A1-FC7B-4D48-889A-59D3C5C9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81B1-5942-4A5D-BF77-B56B409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E5C2-9787-4EA2-8748-E43BF20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50E8-C7B8-41CE-B1D2-E360CDD1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FB97-8504-4965-88BA-4395B93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E23-8DC9-49F7-AB8A-AD1D28C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265-160F-442C-8C25-1F34770E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2C24-94ED-4CE6-8270-6AC3577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B50-F327-4634-8A8D-456E4867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9393-24CC-47D2-8C80-8239D9F9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1DD-0253-4235-8EB4-2C298B0F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6C8-0649-4B13-AFBA-545FD97E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5F6-128B-4833-906F-87E85A0F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2FC-C8D1-493F-8161-7407C775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463-1C54-4E83-84B0-52F4B6A1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B6F-7EDF-42AC-B8FB-6ECF52B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E49-4B7E-435E-B5C1-4C4E4ED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AAE-415C-4413-955C-1B45C60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EBA1-3EA4-482C-89F1-28C0A792F3F7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FFE8-A47F-42A9-B6D2-A781865A7780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36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cccc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46204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295280" y="914400"/>
            <a:ext cx="655344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Guttman Hatzvi"/>
              </a:rPr>
              <a:t>ספריית נווה חנה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Guttman Hatzvi"/>
              <a:ea typeface="Guttman Hatzv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00200" y="5181480"/>
            <a:ext cx="640080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Guttman Hatzvi"/>
              </a:rPr>
              <a:t>ברוכות הבאות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Guttman Hatzvi"/>
              <a:ea typeface="Guttman Hatzvi"/>
            </a:endParaRPr>
          </a:p>
        </p:txBody>
      </p:sp>
    </p:spTree>
  </p:cSld>
  <p:transition spd="slow" advTm="11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304920"/>
            <a:ext cx="7769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פשר לצפות בטלוויזיה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ך רק באישור ההנהל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228600"/>
            <a:ext cx="678168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מחשבים ה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רכוש הציבו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א "לטפל" בהם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ם יש בעיה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פנות לספרניות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286000" cy="1536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3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0"/>
            <a:ext cx="776916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מדפסות נועדו לשימוש לימודי בלב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כל הדפסה אחר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תחויב בתשלו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וכאשר מדפיסי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שתדלו לא להגז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דיו יקר וגם חבל על הדפים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2920" y="3276720"/>
            <a:ext cx="1439640" cy="125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438640" cy="2031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9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2286000"/>
            <a:ext cx="5638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מחשבים בספרייה נועדו לצורך לימודי </a:t>
            </a:r>
            <a:r>
              <a:rPr b="1" lang="hi-IN" sz="4000" spc="-1" strike="noStrike" u="sng">
                <a:solidFill>
                  <a:srgbClr val="a1bd69"/>
                </a:solidFill>
                <a:uFillTx/>
                <a:latin typeface="Times New Roman"/>
                <a:cs typeface="Guttman Yad-Brush"/>
              </a:rPr>
              <a:t>בלבד</a:t>
            </a:r>
            <a:r>
              <a:rPr b="0" lang="en-US" sz="40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1600200" cy="153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53080" y="533520"/>
            <a:ext cx="1981440" cy="123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1905120" cy="1538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676520" y="990720"/>
            <a:ext cx="1657080" cy="9745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100"/>
                            </p:stCondLst>
                            <p:childTnLst>
                              <p:par>
                                <p:cTn id="24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600"/>
                            </p:stCondLst>
                            <p:childTnLst>
                              <p:par>
                                <p:cTn id="24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100"/>
                            </p:stCondLst>
                            <p:childTnLst>
                              <p:par>
                                <p:cTn id="250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9880" y="609480"/>
            <a:ext cx="50706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ין לקחת             דפים מהמדפסות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שביל זה יש    דפי טיוטה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(מתחת למכונת הצילום ואצל הספרניות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66680" y="1943280"/>
            <a:ext cx="2743200" cy="2468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400"/>
                            </p:stCondLst>
                            <p:childTnLst>
                              <p:par>
                                <p:cTn id="267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400"/>
                            </p:stCondLst>
                            <p:childTnLst>
                              <p:par>
                                <p:cTn id="272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838080"/>
            <a:ext cx="7769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כאשר מעיינים בספר מתערוכה או מ"חדש בספריה"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חזירו אותו למקומו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3886200"/>
            <a:ext cx="2743200" cy="1984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19320" y="380880"/>
            <a:ext cx="893520" cy="129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81080" y="2209680"/>
            <a:ext cx="6069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קחתן חפצים מהספרניות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שמחה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חזירו אותם מיד לאחר השימו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743200" y="22860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457200"/>
            <a:ext cx="776916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דפים מ"קלסרי נושאים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יש להוציא עם הניילון בלבד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ל תחזירו את הניילון לקלסר- הניחו אותו על העגל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438640" cy="1617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2438280" cy="1617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2286000"/>
            <a:ext cx="2438280" cy="16178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amond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50"/>
                            </p:stCondLst>
                            <p:childTnLst>
                              <p:par>
                                <p:cTn id="33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950"/>
                            </p:stCondLst>
                            <p:childTnLst>
                              <p:par>
                                <p:cTn id="34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450"/>
                            </p:stCondLst>
                            <p:childTnLst>
                              <p:par>
                                <p:cTn id="346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95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45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95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2133720"/>
            <a:ext cx="723924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תום השימוש יש להחזיר את הספרים לעגלה בלבד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1981440" cy="186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2629080" y="549360"/>
            <a:ext cx="2286000" cy="1809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ircl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750"/>
                            </p:stCondLst>
                            <p:childTnLst>
                              <p:par>
                                <p:cTn id="387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0764 0.07615 C -0.28403 0.07268 -0.31406 0.0794 -0.29653 0.06551 C -0.2934 0.06319 -0.28281 0.0625 -0.28281 0.06273 C -0.20573 0.06389 -0.12917 0.06852 -0.05174 0.07014 C -0.03125 0.07361 -0.01806 0.07523 0.00469 0.07615 C 0.09514 0.07546 0.17604 0.07222 0.26441 0.07014 C 0.27882 0.06713 0.29132 0.0618 0.30486 0.05787 C 0.3099 0.05625 0.32292 0.05532 0.32726 0.05486 C 0.33941 0.05208 0.34931 0.04606 0.36094 0.04259 C 0.37899 0.0375 0.40017 0.03634 0.41944 0.03495 C 0.47153 0.02222 0.52986 0.03287 0.58542 0.03333 C 0.61007 0.03379 0.6349 0.03287 0.65938 0.03495 C 0.66806 0.03588 0.68264 0.04652 0.69514 0.04861 C 0.70625 0.05416 0.7158 0.05555 0.72882 0.05787 C 0.7934 0.05671 0.80764 0.06111 0.85226 0.05023 C 0.86719 0.03565 0.90139 0.03773 0.92431 0.03657 C 0.94462 0.03426 0.96267 0.02777 0.98247 0.02569 C 0.9849 0.0243 0.98628 0.02152 0.98924 0.02129 C 1.04132 0.01504 1.05972 0.02685 1.04306 0.01666 E">
                                      <p:cBhvr>
                                        <p:cTn id="388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914400"/>
            <a:ext cx="5486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דאגו תמיד לסדר אחריכן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חרי לימוד משותף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חרי מבחן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חרי פעילות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תמיד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001000" y="1523880"/>
            <a:ext cx="609480" cy="3733920"/>
            <a:chOff x="8001000" y="1523880"/>
            <a:chExt cx="609480" cy="3733920"/>
          </a:xfrm>
        </p:grpSpPr>
        <p:grpSp>
          <p:nvGrpSpPr>
            <p:cNvPr id="153" name=""/>
            <p:cNvGrpSpPr/>
            <p:nvPr/>
          </p:nvGrpSpPr>
          <p:grpSpPr>
            <a:xfrm>
              <a:off x="8001000" y="1523880"/>
              <a:ext cx="609480" cy="3221280"/>
              <a:chOff x="8001000" y="1523880"/>
              <a:chExt cx="609480" cy="3221280"/>
            </a:xfrm>
          </p:grpSpPr>
          <p:pic>
            <p:nvPicPr>
              <p:cNvPr id="1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001000" y="419112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01000" y="365760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001000" y="312408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259092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001000" y="205740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001000" y="152388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8001000" y="4703760"/>
              <a:ext cx="6094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1371600" y="1447920"/>
            <a:ext cx="609480" cy="3733200"/>
            <a:chOff x="1371600" y="1447920"/>
            <a:chExt cx="609480" cy="3733200"/>
          </a:xfrm>
        </p:grpSpPr>
        <p:grpSp>
          <p:nvGrpSpPr>
            <p:cNvPr id="162" name=""/>
            <p:cNvGrpSpPr/>
            <p:nvPr/>
          </p:nvGrpSpPr>
          <p:grpSpPr>
            <a:xfrm>
              <a:off x="1371600" y="1447920"/>
              <a:ext cx="609480" cy="3220560"/>
              <a:chOff x="1371600" y="1447920"/>
              <a:chExt cx="609480" cy="3220560"/>
            </a:xfrm>
          </p:grpSpPr>
          <p:pic>
            <p:nvPicPr>
              <p:cNvPr id="1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371600" y="411480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71600" y="358128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71600" y="304776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71600" y="251460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71600" y="198108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71600" y="144792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9" name="" descr=""/>
            <p:cNvPicPr/>
            <p:nvPr/>
          </p:nvPicPr>
          <p:blipFill>
            <a:blip r:embed="rId14"/>
            <a:stretch/>
          </p:blipFill>
          <p:spPr>
            <a:xfrm>
              <a:off x="1371600" y="4627440"/>
              <a:ext cx="609480" cy="55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6000">
    <p:wipe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85800"/>
            <a:ext cx="8153280" cy="40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שאת רוצה ללמוד במקום שקט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שאת רוצה פינה רגועה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שאת רוצה להכין את הפעולה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4648320"/>
            <a:ext cx="7391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Guttman Hatzvi"/>
              </a:rPr>
              <a:t>בואי לספרייה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Guttman Hatzvi"/>
              <a:ea typeface="Guttman Hatzv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861840" cy="1104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795600" cy="1104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-1523880" y="443700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92593E-006 C 0.08108 -0.00138 0.08594 0.00626 0.13507 -0.00879 C 0.15208 -0.0243 0.13993 -0.01504 0.18507 -0.01111 C 0.1908 -0.01064 0.2 5.92593E-006 0.2 5.92593E-006 C 0.2099 0.02014 0.22448 0.02593 0.24167 0.02894 C 0.24913 0.03218 0.25451 0.03681 0.26163 0.04005 C 0.26979 0.05093 0.26285 0.04445 0.275 0.04885 C 0.27847 0.05001 0.28177 0.05186 0.28507 0.05348 C 0.28663 0.05417 0.28993 0.05556 0.28993 0.05556 C 0.29427 0.06089 0.29601 0.06436 0.30174 0.06667 C 0.32031 0.0838 0.31806 0.08149 0.3434 0.0845 C 0.38559 0.09931 0.35295 0.08866 0.46163 0.0845 C 0.46858 0.08427 0.475 0.07848 0.4816 0.07778 C 0.50486 0.07524 0.5283 0.07501 0.55174 0.07339 C 0.55868 0.07014 0.56476 0.06552 0.5717 0.06227 C 0.57378 0.05325 0.57622 0.05255 0.5816 0.04677 C 0.58403 0.04422 0.58559 0.04005 0.58819 0.03774 C 0.5941 0.03311 0.60434 0.03218 0.61007 0.03126 C 0.63837 0.01783 0.66302 0.0213 0.69497 0.02014 C 0.71736 0.01251 0.73941 0.00348 0.76163 -0.00439 C 0.76962 -0.01134 0.77882 -0.01296 0.78837 -0.01319 C 0.82448 -0.01458 0.86059 -0.01504 0.8967 -0.0155 C 0.93507 -0.01597 0.97326 -0.0155 1.01163 -0.0155 E">
                                      <p:cBhvr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457200"/>
            <a:ext cx="693396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ם העברתן כסאות מחדר לחדר- החזירו אותם למקומם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ם הפרדתן או חיברתן                         שולחנות- החזירו אותם למצב המקורי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זרקו את הלכלוכים, הדפים, הגזירות וכ'ו לפח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731000" y="1143000"/>
            <a:ext cx="621000" cy="121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29574" t="0" r="0" b="0"/>
          <a:stretch/>
        </p:blipFill>
        <p:spPr>
          <a:xfrm>
            <a:off x="1143000" y="838080"/>
            <a:ext cx="1631880" cy="171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split dir="out" orient="horz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3750"/>
                            </p:stCondLst>
                            <p:childTnLst>
                              <p:par>
                                <p:cTn id="42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625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8750"/>
                            </p:stCondLst>
                            <p:childTnLst>
                              <p:par>
                                <p:cTn id="4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48320" y="838080"/>
            <a:ext cx="38098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קשקושים, חישובים והערות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רק על דפים ולא על השולחנות והקיר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2373480" cy="258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2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05120" y="838080"/>
            <a:ext cx="5790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פני שאתן יוצאות מהספרייה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ספו את כל הציוד שלכן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91520" y="2971800"/>
            <a:ext cx="1295280" cy="1063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620120" y="457200"/>
            <a:ext cx="97128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19320" y="129528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205760" y="50292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נעל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07440" y="419112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סוודר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82680" y="426708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חוט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88760" y="5181480"/>
            <a:ext cx="13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צעיפ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19040" y="59436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ספר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5600" y="5867280"/>
            <a:ext cx="15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מחבר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41480" y="586728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כלי כתיב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9440" y="524196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דפ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strips dir="r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9000"/>
                            </p:stCondLst>
                            <p:childTnLst>
                              <p:par>
                                <p:cTn id="4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565200"/>
            <a:ext cx="76201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ספרייה היא המפתח להצלחה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נשמור עליה- היא תעזור לנו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8098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in" orient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66680" y="380880"/>
            <a:ext cx="7769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על כל שאלה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קושיה או בעי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 נשמח לענות ולפתור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נחנו כאן- בשבילכן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         צוות הספריי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1981080" cy="157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1828800" cy="17352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wheel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0"/>
            <a:ext cx="784872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פי שתגלי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הספרייה היא מקום מאוד מרכזי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יש שם ספרי קריאה, ספרי עיון,                כתבי עת, מחשבים, אנציקלופדיות, פעולות, קלסרי נושאים, קלטות וידאו, דיסקים ושירים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ובעצם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ה- כ-ו-ל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46000" cy="1028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461160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1600200" cy="145584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1371600"/>
            <a:ext cx="56386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מאחורי הקלעים נמצאות הספרני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מוכנות לעזור באיתור חומרים  ובהמלצות ספר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638680" cy="49737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233820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7400" y="685800"/>
            <a:ext cx="57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לכן...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wipe dir="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702480" y="78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1600" y="2514600"/>
            <a:ext cx="72388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843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a1bd69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uttman Hatzvi"/>
              </a:rPr>
              <a:t>יש כמה כללים</a:t>
            </a:r>
            <a:endParaRPr b="0" lang="en-US" sz="2400" spc="1" strike="noStrike">
              <a:ln w="0">
                <a:noFill/>
              </a:ln>
              <a:solidFill>
                <a:srgbClr val="a1bd69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uttman Hatzvi"/>
              <a:ea typeface="Guttman Hatzv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a1bd69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uttman Hatzvi"/>
              </a:rPr>
              <a:t>לשמור שיהיה לכולנו נעים!</a:t>
            </a:r>
            <a:endParaRPr b="0" lang="en-US" sz="2400" spc="1" strike="noStrike">
              <a:ln w="0">
                <a:noFill/>
              </a:ln>
              <a:solidFill>
                <a:srgbClr val="a1bd69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uttman Hatzvi"/>
              <a:ea typeface="Guttman Hatzv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134460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03280" y="981000"/>
            <a:ext cx="67485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כניסתכן לספרייה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שלום + חיו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יתקבלו בברכה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324160" cy="3056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380880"/>
            <a:ext cx="77691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א נכנסים ע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וכל ושתייה!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(מותר להכניס בקבוק שתייה בלבד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590920"/>
            <a:ext cx="1089000" cy="90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55600" y="358128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660066"/>
                </a:solidFill>
                <a:latin typeface="Arial"/>
                <a:cs typeface="Arial"/>
              </a:rPr>
              <a:t>שיהיה בתאבון- אבל בחוץ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48520" y="2438280"/>
            <a:ext cx="1828800" cy="18194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2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700"/>
                            </p:stCondLst>
                            <p:childTnLst>
                              <p:par>
                                <p:cTn id="153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2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7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838080"/>
            <a:ext cx="77691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א מדברים בפלאפון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(לשים את הפלאפון על רטט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ואם יש שיחה- לצאת מהספרייה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2255760" cy="2256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8:45:57Z</dcterms:created>
  <dc:creator>נוה חנה</dc:creator>
  <dc:description/>
  <dc:language>en-US</dc:language>
  <cp:lastModifiedBy>neve chana</cp:lastModifiedBy>
  <dcterms:modified xsi:type="dcterms:W3CDTF">2007-04-26T14:26:25Z</dcterms:modified>
  <cp:revision>119</cp:revision>
  <dc:subject/>
  <dc:title>ספריית נווה חנה</dc:title>
</cp:coreProperties>
</file>